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2120" indent="-381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5120" indent="-190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190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457200" y="2590920"/>
            <a:ext cx="6194520" cy="6705000"/>
            <a:chOff x="457200" y="2590920"/>
            <a:chExt cx="6194520" cy="6705000"/>
          </a:xfrm>
        </p:grpSpPr>
        <p:sp>
          <p:nvSpPr>
            <p:cNvPr id="39" name=""/>
            <p:cNvSpPr/>
            <p:nvPr/>
          </p:nvSpPr>
          <p:spPr>
            <a:xfrm>
              <a:off x="550800" y="2832840"/>
              <a:ext cx="6100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. Continúe esta secuencia lógica:          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50800" y="4505400"/>
              <a:ext cx="5872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2. Corrija esta fórmula colocando sólo un trazo:            25 Pu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18400" y="6190200"/>
              <a:ext cx="5857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3. Por favor, escriba cualquier cosa:                                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21280" y="7785720"/>
              <a:ext cx="5769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4. Dibuje un rectángulo con tres líneas:                         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814680" y="3370320"/>
              <a:ext cx="4290840" cy="439200"/>
              <a:chOff x="814680" y="3370320"/>
              <a:chExt cx="4290840" cy="439200"/>
            </a:xfrm>
          </p:grpSpPr>
          <p:sp>
            <p:nvSpPr>
              <p:cNvPr id="44" name=""/>
              <p:cNvSpPr/>
              <p:nvPr/>
            </p:nvSpPr>
            <p:spPr>
              <a:xfrm>
                <a:off x="814680" y="3370320"/>
                <a:ext cx="2155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L     M     M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948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180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8592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84004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4648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060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9236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812160" y="5144040"/>
              <a:ext cx="3836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5    </a:t>
              </a:r>
              <a:r>
                <a:rPr b="0" lang="de-DE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5    </a:t>
              </a:r>
              <a:r>
                <a:rPr b="0" lang="de-DE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5    =    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52560" y="6895440"/>
              <a:ext cx="4724280" cy="387000"/>
              <a:chOff x="952560" y="6895440"/>
              <a:chExt cx="4724280" cy="387000"/>
            </a:xfrm>
          </p:grpSpPr>
          <p:sp>
            <p:nvSpPr>
              <p:cNvPr id="54" name=""/>
              <p:cNvSpPr/>
              <p:nvPr/>
            </p:nvSpPr>
            <p:spPr>
              <a:xfrm>
                <a:off x="952560" y="7276320"/>
                <a:ext cx="472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952560" y="68954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5676840" y="690156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457200" y="259092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" y="4267080"/>
              <a:ext cx="5867280" cy="167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594324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761976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62880" y="325440"/>
            <a:ext cx="264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inisterio de 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studio sobre la Intel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7400" y="1143000"/>
            <a:ext cx="2897280" cy="85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86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vel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1840" y="1676160"/>
            <a:ext cx="196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iempo: 1 Mi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168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133720"/>
            <a:ext cx="4191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Escriba las respuestas en una hoja en blan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37080"/>
            <a:ext cx="60958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¡AÚN TIENE TIEMP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 favor, no vea las respue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mire el test del compañ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ted lo puede conseguir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s soluciones son fáciles, vuelva atrás e intente hacerlo 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1680" y="5257080"/>
            <a:ext cx="1758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 las respue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828800" y="55627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2684" y="3240"/>
                </a:lnTo>
                <a:lnTo>
                  <a:pt x="3240" y="324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2684" y="18360"/>
                </a:lnTo>
                <a:lnTo>
                  <a:pt x="22684" y="324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3240" y="18360"/>
                </a:lnTo>
                <a:lnTo>
                  <a:pt x="22684" y="1836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3240" y="3240"/>
                </a:lnTo>
                <a:lnTo>
                  <a:pt x="3240" y="18360"/>
                </a:lnTo>
                <a:close/>
              </a:path>
              <a:path fill="darken" w="25924" h="21600">
                <a:moveTo>
                  <a:pt x="7327" y="10800"/>
                </a:moveTo>
                <a:lnTo>
                  <a:pt x="18597" y="5165"/>
                </a:lnTo>
                <a:lnTo>
                  <a:pt x="18597" y="16435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4680" y="5257080"/>
            <a:ext cx="1203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lver at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 flipH="1">
            <a:off x="3962520" y="55627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2684" y="3240"/>
                </a:lnTo>
                <a:lnTo>
                  <a:pt x="3240" y="324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2684" y="18360"/>
                </a:lnTo>
                <a:lnTo>
                  <a:pt x="22684" y="324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3240" y="18360"/>
                </a:lnTo>
                <a:lnTo>
                  <a:pt x="22684" y="1836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3240" y="3240"/>
                </a:lnTo>
                <a:lnTo>
                  <a:pt x="3240" y="18360"/>
                </a:lnTo>
                <a:close/>
              </a:path>
              <a:path fill="darken" w="25924" h="21600">
                <a:moveTo>
                  <a:pt x="7327" y="10800"/>
                </a:moveTo>
                <a:lnTo>
                  <a:pt x="18597" y="5165"/>
                </a:lnTo>
                <a:lnTo>
                  <a:pt x="18597" y="16435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50800" y="2864880"/>
            <a:ext cx="610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ontinúe esta secuencia lógica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37440"/>
            <a:ext cx="6154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Corrija esta fórmula colocando sólo un trazo:              25 Pu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400" y="6222240"/>
            <a:ext cx="58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Por favor, escriba cualquier cosa:              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0920" y="7817760"/>
            <a:ext cx="581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Dibuje un rectángulo con tres líneas:        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20080" y="3402360"/>
            <a:ext cx="4285440" cy="439200"/>
            <a:chOff x="820080" y="3402360"/>
            <a:chExt cx="4285440" cy="439200"/>
          </a:xfrm>
        </p:grpSpPr>
        <p:sp>
          <p:nvSpPr>
            <p:cNvPr id="77" name=""/>
            <p:cNvSpPr/>
            <p:nvPr/>
          </p:nvSpPr>
          <p:spPr>
            <a:xfrm>
              <a:off x="820080" y="3402360"/>
              <a:ext cx="1707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948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180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592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004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648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236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12160" y="5176080"/>
            <a:ext cx="383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5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5    =    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52560" y="6927840"/>
            <a:ext cx="4724280" cy="387000"/>
            <a:chOff x="952560" y="6927840"/>
            <a:chExt cx="4724280" cy="387000"/>
          </a:xfrm>
        </p:grpSpPr>
        <p:sp>
          <p:nvSpPr>
            <p:cNvPr id="87" name=""/>
            <p:cNvSpPr/>
            <p:nvPr/>
          </p:nvSpPr>
          <p:spPr>
            <a:xfrm>
              <a:off x="952560" y="730872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52560" y="6927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676840" y="69336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7200" y="262260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299120"/>
            <a:ext cx="58672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97528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765180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6560" y="325440"/>
            <a:ext cx="264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inisterio de 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studio sobre la Intel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57400" y="1219320"/>
            <a:ext cx="2897280" cy="85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86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vel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3880" y="1599840"/>
            <a:ext cx="189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mpo: 1 Mi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436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168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4480" y="3427920"/>
            <a:ext cx="249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942360"/>
            <a:ext cx="457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Lunes          Martes      Miércoles      Jueves         Viernes        Sábado      Domin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9360" y="5302080"/>
            <a:ext cx="1440" cy="108000"/>
          </a:xfrm>
          <a:custGeom>
            <a:avLst/>
            <a:gdLst/>
            <a:ahLst/>
            <a:rect l="l" t="t" r="r" b="b"/>
            <a:pathLst>
              <a:path w="1" h="68">
                <a:moveTo>
                  <a:pt x="1" y="0"/>
                </a:move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5320" y="6906960"/>
            <a:ext cx="1825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Lucida Handwriting"/>
              </a:rPr>
              <a:t>Cualquier  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66880" y="8381880"/>
            <a:ext cx="1523520" cy="685800"/>
            <a:chOff x="2666880" y="8381880"/>
            <a:chExt cx="1523520" cy="685800"/>
          </a:xfrm>
        </p:grpSpPr>
        <p:sp>
          <p:nvSpPr>
            <p:cNvPr id="104" name=""/>
            <p:cNvSpPr/>
            <p:nvPr/>
          </p:nvSpPr>
          <p:spPr>
            <a:xfrm>
              <a:off x="2666880" y="8381880"/>
              <a:ext cx="1523520" cy="6858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04920" y="855972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67400" y="859788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863568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75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25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225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0280" y="1496880"/>
            <a:ext cx="57150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¿Te rindes?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Hazte el loco y no le digas a nadie que has fallado este test tan sencillo..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Ahora envíalo a tus amistades para que ellos también se evalúen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¡SALUDOTES!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4:22:13Z</dcterms:created>
  <dc:creator>Schimanski</dc:creator>
  <dc:description/>
  <cp:keywords/>
  <dc:language>en-US</dc:language>
  <cp:lastModifiedBy>Cereceda</cp:lastModifiedBy>
  <cp:lastPrinted>2002-05-03T10:19:09Z</cp:lastPrinted>
  <dcterms:modified xsi:type="dcterms:W3CDTF">2005-11-20T22:09:04Z</dcterms:modified>
  <cp:revision>42</cp:revision>
  <dc:subject/>
  <dc:title>Kein Folientitel</dc:title>
</cp:coreProperties>
</file>